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8A1-A474-4656-B821-7FB57D0F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693-AE15-4882-A3BF-EC061A35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4E2-1C9A-4E79-8643-F0F66FCA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775-D2F2-42EC-A817-D0E1D187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5C97-6F57-45E7-B63D-790E957B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854C-6CA1-458A-9A72-4F3F7A55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316E-50D5-415B-AA38-8F909BFD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F274-1698-460D-833B-D0CAC4D0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225E-DBF4-4B35-AEC1-8CF446F6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E674-8A66-4DC8-8A07-D08C688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CA23-6409-473F-AD49-6E62B714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7DF-FEA8-49E4-A3C2-CE277C55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E57E-FC97-4356-A7C5-07BC2EE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2339-79CC-47C5-8D24-F630A99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44B-B504-41FD-918C-DCF47D3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1E67-9F4D-40AE-A6BA-35ABB910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48B4-6100-4448-92F0-B815EF47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4F2-3CC0-4D59-AF5E-CB21670E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4E2-0FC4-4EA9-8978-7FF62DA9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66F-7445-472E-92AB-C8C78C8C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8FF-7D82-48AB-8F78-CE6C36AC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1C3-779B-4858-A21E-9454428B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98B-C419-4D13-9F10-B3EAC2AE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362-8744-4A7B-8844-8E021295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8EEA-66D0-4D28-89A9-FC75046408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A0C2-D064-44FF-8C7F-857B17C325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1916280"/>
            <a:ext cx="77025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otype Corsiva"/>
              </a:rPr>
              <a:t>Методы анализа инвестиционных проектов. Анализ риск проек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4869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кция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86d1ec"/>
                </a:solidFill>
                <a:uFillTx/>
                <a:latin typeface="Monotype Corsiva"/>
              </a:rPr>
              <a:t>Анализ рисков проек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risk project analysis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 — методы оценки рисков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ыделяют 3 типа рис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Единичный риск, когда риск проекта рассматривается изолированно, вне связи с другими проектами пред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нутрифирменный риск, когда риск проекта рассматривается в его связи с портфелем проектов пред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ыночный риск, когда риск проекта рассматривается в контексте диверсификации капитала акционеров предприятия на фондовом ры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ри метода проведения анализа риска проек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d1ec"/>
                </a:solidFill>
                <a:latin typeface="Monotype Corsiva"/>
              </a:rPr>
              <a:t>Анализ чувствительности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(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sensitivity analysis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) — методика выявления критических показателей проекта. В ходе анализа происходит проверка критериев эффективности проекта (чистой текущей стоимости и (или) внутренней нормы прибыли) в связи с изменениями исходной информации (инвестиционных и эксплуатационных издержек, цен на продукцию или услуг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d1ec"/>
                </a:solidFill>
                <a:latin typeface="Monotype Corsiva"/>
              </a:rPr>
              <a:t>Анализ сценариев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(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scenario analysis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) — методика проведения А.р.п., в соответствии с которой с базовым сценарием сравниваются значения чистой текущей стоимости лучшей и худшей ситу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Имитационное моделирование по </a:t>
            </a:r>
            <a:r>
              <a:rPr b="0" lang="ru-RU" sz="2400" spc="-1" strike="noStrike">
                <a:solidFill>
                  <a:srgbClr val="86d1ec"/>
                </a:solidFill>
                <a:latin typeface="Monotype Corsiva"/>
              </a:rPr>
              <a:t>методу Монте-Карло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(simulation modeling on MONTE-CARLO method) — методика А.р.п., основанная на анализе распределений вероятностей входных переменны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Процедура оценки и управления риск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600200"/>
          <a:ext cx="8075520" cy="508320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Этапы жизненного цикла проек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Этапы планирования и управления инвестиционными рисками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Планирование проек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ачественный анал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Количественный анал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еализация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Управление выявленными рискам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Завершение проект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Подведение итогов проекта, анализ реализовавшихся рис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В практике управление проектами существует три способа снижения рис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распределение риска между участниками проект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трахован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резервирование средств на покрытие непредвиденных расход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Распределение риска между участниками проек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ущность распределения риска заключается в том, чтобы сделать ответственным за риск того участника проекта, который в состоянии лучше всех рассчитывать и контролировать ри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Распределение риска реализуется при разработке финансового плана проекта и контрактн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Для качественного распределения риска в проектах предлагается использовать так называемую концептуальную мод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Концептуальная модель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базируется на стандартных методах решений, основой которых является дерево «вероятностей и решений», используемое для установления последовательности решений по выбору того или иного заказа определяется на стадии формирования портфеля заказ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ибыль исполнителя, т.е. </a:t>
            </a: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оценка портфеля заказов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, может быть рассчитана по следующей формул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 = (К + У1)Р(У1) * (К + У2)Р(У2)...(К + Уn)Р(Уn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где П прибыль фирмы с учетом неопредел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 - первоначальный капитал фир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i - возможная прибыль фирмы (i = 1,2,3,...,n); n - число возможных исходов событий при выполнении про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(Уi) - вероятность каждого ис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Страхование рис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Страхование риска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есть по существу передача определенных рисков страховой комп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Рассмотрим на примере возведения крупного строительного комплекса. Могут быть применены два основных способа страхования: имущественное страхование и страхование от несчастных случа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Имущественное страхование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может иметь следующи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риска подрядного строитель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морских груз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оборудования, принадлежащего подрядч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Страхование от несчастных случаев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общей гражданской ответ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страхование профессиональной ответ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Резервирование средств на покрытие непредвиденных расх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Создание резерва средств на покрытие непредвиденных расходов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представляет собой способ борьбы с риском, предусматривающий установление соотношения между потенциальными рисками, влияющими на стоимость проекта, и размером расходов, необходимых для преодоления сбоев в выполнении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пределение структуры резерва на покрытие непредвиденных расходов может производиться на базе </a:t>
            </a: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двух подх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При первом подходе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резерв делится на две части: на общий и специаль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Второй подход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к созданию структуры резерва предполагает определение непредвиденных расходов по видам затрат, например, на заработную плату, материалы, субконтра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Анализ риск проекта позволяет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ыбрать проект по критерию наименьшего рис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сравнить степень вероятности получения выгод для всех участников проекта и сопоставить значения дохода и риска по принципу — чем больше риск, тем больше доход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проработать на стадии подготовки документы, обслуживающие проект, например, сравнить выгоды от различных типов контрактов — сервисного контракта, контракта с постоянной долей продукции, контракта с изменяющимся масштабом доли продукции, контракта с фиксированной платой за единицу продукции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1440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Понятие инвестиционного проекта трактуется двояк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как деятельность (мероприятие), предполагающая осуществление комплекса каких-либо действий, обеспечивающих достижение определенных ц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как система, включающая определенный набор организационно-правовых и расчетно-финансовых документов, необходимых для осуществления каких-либо действий или описывающих эти 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К основным методам анализа инвестиционных проектов относя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Динамическ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Статистическ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Статистические мет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Статистические методы базируются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на допущение равной значимости доходов и расходов в инвестиционной деятельности и не учитывают временную стоимость дене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К статистическим  методам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рок окупаемости инвестиций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(PP)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оэффициент эффективности инвестиций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RR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аиболее важным из статистических методов является </a:t>
            </a:r>
            <a:r>
              <a:rPr b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срок окупаемост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, который показывает ликвидность данного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едостатком статистических методов является </a:t>
            </a:r>
            <a:r>
              <a:rPr b="1" lang="ru-RU" sz="2800" spc="-1" strike="noStrike" u="sng">
                <a:solidFill>
                  <a:srgbClr val="86d1ec"/>
                </a:solidFill>
                <a:uFillTx/>
                <a:latin typeface="Monotype Corsiva"/>
              </a:rPr>
              <a:t>отсутствие учета фактора времени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Century Schoolbook"/>
              </a:rPr>
              <a:t>Срок окупаемости инвестиций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 – это время, которое требуется чтобы инвестиция обеспечила достаточное поступление денег для возмещения инвестиционных расх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P =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∑CF&gt;J</a:t>
            </a:r>
            <a:r>
              <a:rPr b="0" lang="en-US" sz="1000" spc="-1" strike="noStrike">
                <a:solidFill>
                  <a:srgbClr val="ffffff"/>
                </a:solidFill>
                <a:latin typeface="Century Schoolbook"/>
                <a:ea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            PP =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CF –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приток денежных средств в период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Century Schoolbook"/>
                <a:ea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-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величина исходных инвестиций на начало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n –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число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6d1ec"/>
                </a:solidFill>
                <a:uFillTx/>
                <a:latin typeface="Monotype Corsiva"/>
                <a:ea typeface="Arial"/>
              </a:rPr>
              <a:t>Коэффициент эффективности инвестиций</a:t>
            </a:r>
            <a:r>
              <a:rPr b="0" lang="ru-RU" sz="2000" spc="-1" strike="noStrike">
                <a:solidFill>
                  <a:srgbClr val="ffffff"/>
                </a:solidFill>
                <a:latin typeface="Century Schoolbook"/>
                <a:ea typeface="Arial"/>
              </a:rPr>
              <a:t> показывает какая часть инвестиционных затрат возмещается в виде прибыли в течение одного интервала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ARR = P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/JC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JC 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- инвестиции, 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б – чистая прибыль от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  <a:ea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Динамические мет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инамические (дисконтные) методы учитывают временную стоимость денег отражают наиболее современные подходы к оценке эффективности инвестиций и преобладают в практике крупных и средних предпри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 динамическим методам относят расчет таких показател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истая приведенная стоимость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NPV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ндекс рентабельности инвестиций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PJ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нутренняя норма прибыли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JRR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Модифицированная норма прибыли (М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JRR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исконтированный срок окупаемости инвестиций (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PP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6d1ec"/>
                </a:solidFill>
                <a:uFillTx/>
                <a:latin typeface="Monotype Corsiva"/>
              </a:rPr>
              <a:t>Чистая приведенная стоимость  </a:t>
            </a:r>
            <a:r>
              <a:rPr b="1" lang="en-US" sz="2000" spc="-1" strike="noStrike" u="sng">
                <a:solidFill>
                  <a:srgbClr val="86d1ec"/>
                </a:solidFill>
                <a:uFillTx/>
                <a:latin typeface="Monotype Corsiva"/>
              </a:rPr>
              <a:t>NP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Этот метод основан на сопоставлении величины исходной инвестиций с общей суммой дисконтированных чистых денежных поступлений генерируемые его в течение прогнозируемого сро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V = ∑ _CF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__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(1+r)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 = ∑ _CFt__ -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J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(1+r)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&gt;0,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то проект следует приним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&lt;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0, то проект следует отвергну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NPV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=0, то проект неприбыльный и неубыточ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000" spc="-1" strike="noStrike" u="sng">
                <a:solidFill>
                  <a:srgbClr val="86d1ec"/>
                </a:solidFill>
                <a:uFillTx/>
                <a:latin typeface="Monotype Corsiva"/>
              </a:rPr>
              <a:t>Индекс рентабельности </a:t>
            </a:r>
            <a:r>
              <a:rPr b="1" lang="en-US" sz="2000" spc="-1" strike="noStrike" u="sng">
                <a:solidFill>
                  <a:srgbClr val="86d1ec"/>
                </a:solidFill>
                <a:uFillTx/>
                <a:latin typeface="Monotype Corsiva"/>
              </a:rPr>
              <a:t>PJ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Он удобен при выборе проекта из ряда альтернативных имеющие значение чистой приведенной стоимости, либо при комплектации инвестиции с максимальным суммарным значением чистой приведен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∑ _CFt__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PJ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V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 J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  <a:ea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(1+r)</a:t>
            </a:r>
            <a:r>
              <a:rPr b="0" lang="en-US" sz="1000" spc="-1" strike="noStrike">
                <a:solidFill>
                  <a:srgbClr val="ffffff"/>
                </a:solidFill>
                <a:latin typeface="Monotype Corsiva"/>
              </a:rPr>
              <a:t>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 &gt; 1,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то проект следует приним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 &lt; 1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, то проект следует отвергну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PJ 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1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, то проект неприбыльный и неубыточ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507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Внутренняя норма прибыли инвестиций </a:t>
            </a:r>
            <a:r>
              <a:rPr b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JRR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– показатель максимально допустимый относительный уровень расходов, которые могут ассоциируемые с данным проек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Если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RR &gt;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о проект следует приним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RR &lt;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К, то проект следует отвергну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RR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0, то проект неприбыльный и неубыточ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Модифицированная норма прибыли (М</a:t>
            </a:r>
            <a:r>
              <a:rPr b="1" i="1" lang="en-US" sz="2400" spc="-1" strike="noStrike" u="sng">
                <a:solidFill>
                  <a:srgbClr val="86d1ec"/>
                </a:solidFill>
                <a:uFillTx/>
                <a:latin typeface="Monotype Corsiva"/>
              </a:rPr>
              <a:t>JRR</a:t>
            </a:r>
            <a:r>
              <a:rPr b="1" i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озволяет устранить  существенный недостаток внутренней нормы рентабельности проекта, который возникает в случае неоднократного оттока денежных сред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сновное отличие данного метода в том, что реинвестирование производится по безрисковой ставке, величина которой определяется на основе анализа финансового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Дисконтированный срок окупаемости инвестиций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Monotype Corsiva"/>
              </a:rPr>
              <a:t>DPP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Monotype Corsiva"/>
              </a:rPr>
              <a:t>)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страняет  недостаток статистического метода срока окупаемости инвестиций и учитывает стоимость денег во времени, а соответствующая формула для расчета дисконтированного срока окупаемости имеет ви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DPP = min 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и котором, очевидно, что, в случае дисконтирования срок окупаемости увеличивается, т.е. всегда </a:t>
            </a:r>
            <a:r>
              <a:rPr b="1" lang="en-US" sz="2400" spc="-1" strike="noStrike">
                <a:solidFill>
                  <a:srgbClr val="86d1ec"/>
                </a:solidFill>
                <a:latin typeface="Monotype Corsiva"/>
              </a:rPr>
              <a:t>DPP&gt;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При использовании критериев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P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DPP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в оценке инвестиционных проектов решения могут приниматься исходя из следующих  </a:t>
            </a:r>
            <a:r>
              <a:rPr b="1" lang="ru-RU" sz="2400" spc="-1" strike="noStrike" u="sng">
                <a:solidFill>
                  <a:srgbClr val="86d1ec"/>
                </a:solidFill>
                <a:uFillTx/>
                <a:latin typeface="Monotype Corsiva"/>
              </a:rPr>
              <a:t>усло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а) проект принимается, если окупаемость  имеет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б) проект принимается, только в том случае если срок окупаемости не превышает  установленного для конкретной компании предельного с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23:33Z</dcterms:created>
  <dc:creator>user</dc:creator>
  <dc:description/>
  <dc:language>en-US</dc:language>
  <cp:lastModifiedBy>Komp</cp:lastModifiedBy>
  <dcterms:modified xsi:type="dcterms:W3CDTF">2011-06-07T10:49:16Z</dcterms:modified>
  <cp:revision>7</cp:revision>
  <dc:subject/>
  <dc:title>М инвестиционных проетов</dc:title>
</cp:coreProperties>
</file>